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7BE-F95E-42EB-8A08-DD05C371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EA2-8D18-4C87-938D-744424E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0C8-47EA-4FA6-BD2E-20FA0162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EFE-5DCD-4D1E-AC07-4F4176CB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6EF-6541-4AA4-99D0-60A793B0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DB-4F7B-4407-A5AC-02C3C529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855-E1D3-436D-9572-607C5F3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D92-3F5F-4F00-B0A8-C16ACBB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5AD-2596-4E6C-A8E9-0745B83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BEB-51E3-4CE1-8AC6-DC77C94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6FA-F622-4FE0-B458-1320E48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631-F65F-474D-A6A0-870FE61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0E4B-00CD-43BD-B9FB-96C0A78D7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коном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зличита тумач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кономском смислу појединци најбоље просуђују шта чини осећај личног благо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дравственој економиј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потреба се тумачи у ширем смислу, подразумева како потребе тако и захтеве појединца у здравственом систем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значај у изради дизајна фармакоекономског истраживања  се односи на одаби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а у којем се спроводи анализ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г компаратор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a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венције које се пореде у фармакоекономским анализама морају бити поредбене и у домену трошкова и у домену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 тачке гледишта са којег се посматрају трошкови представља кључно питање у фармакоекономији и дефинише се као перспектив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можемо тумачити са асп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давца, односно институ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er 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ers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ive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а у целини (eng. societal persp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евалуацијама здравствене интервенције се процењују у до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медицинским услугама се додељује монетарна вредност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utcomes, benefit, consequ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се могу изразити природним јединицама (које описују природни ток болести) или јединицама „корисности“, које се најчешће изражавају употребом јединица које мере квалитет живот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оставити временски оквир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horiz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којем ће се посматрати трошкови и исхо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усност резултата фармакоекономске анализе треба проверити извођењем анализе сензитивности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м варијабли у унапред предвиђеном распону могуће је уочити и промену одлуке добијене фармакоекономском анали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ији трошкови се најчешће деле на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и трошк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лекова, трошкови мониторинга терапије, трошкови саветовања пацијената, трошкови прегледа лекара, трошкови дијагностике, трошкови хоспиталног лечења...)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превоза, измене услова становања, трошкови настали због измена у исхрани услед болести, трошкови настали због хроничног тока болести,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и трошков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који настају као последица губитка радне способности или пацијената или члана породице који негује оболелог, а које је узроковано природом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и трошков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и емотивном компонентом као што су: бол, патња, анксиозност, депресивност, а које настају код пацијената и/или чланова породице због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ксни трошков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 мењају се током једног интервала (годину дана на пр.) пружања услуге : плате здравствених радника, трошкови одржавања опреме, просторија и сл..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ријабилни трошков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нљиви током времена – трошкови због употребе терапије, медицинских средстав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шкови могућност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ошкови опортунитета)- трошкови настали због изгубљене користи ако се примени једна интервенција уместо др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могућности (трошкови опортунитета): трошкови настали због изгубљене користи ако се примени једна интервенција уместо друг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нутног или будућег здравственог стања пацијента која може настати као последица прим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истраживањима, исходи се посматрају са хронолошког аспекта као последице примене нек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исхода у фармакоекономским студијама поред клиничких домена (ефикасност и безбедност) подразумева и хуманистичке и економске домене последица примењ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нових захтева у систему здравствене заштите намећу потребу за адекватнијом расподелом ресур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нових терапијских стратегија готово увек подразумева и пораст трошкова лечења са посебним утицајем на буџет намењен здравству у це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шење одлуке да ли прихватити увођење неког новог лека или неке нове процедуре подразумева сагледавање добити (eng. benefit), али и трошкова (eng.costs) нове интеревнције а у домен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еконо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икаснос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effica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а ли лечење постиже ефекат тј да ли је ефек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роцењује се у клиничким студ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и ефек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clinical effectivene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 у коме лек постиже ефекат у клиничкој прак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на корист од лек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fficien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лек вредан цене коју за њега плаћају појединци  идруштво? Процењује се у фармакоекономским студиј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ји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ligness to pay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ремност друштва да плати неку терапијску опциј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0504d"/>
                </a:solidFill>
                <a:uFillTx/>
                <a:latin typeface="Times New Roman"/>
              </a:rPr>
              <a:t>Анализа минимизирања трошкова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Times New Roman"/>
              </a:rPr>
              <a:t> (cost -minimisation analysi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анализа која се кори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евалуирају терапијске процедуре које су еквивалентне у смислу здравствених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номске аспекте поредбених интерв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ост у смислу здравствених исхода поредбених терапијских процедура мора бити детаљно документована пре извођења анализе минимизирања трошков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тудије су типичне за фармакоекономске евалуације палете тзв. генеричких лекова или различитих облика једног истог л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8900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4f81bd"/>
                </a:solidFill>
                <a:uFillTx/>
                <a:latin typeface="Times New Roman"/>
              </a:rPr>
              <a:t>Анализа односа трошкова и клиничког ефекта</a:t>
            </a: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</a:rPr>
              <a:t> (cost-effectiveness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нови је поређење медицинских интервенција у погледу трошкова, који се изражавају у монетарним јединицама и у погледу здравствених исхода који су изражени употребом тзв. природних јединица (нпр. број спречених егзацeрбација болести, број дана без симптома болести, број сачуваних живота, добијени број година живота, итд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 временски хоризонт затева увођење дисконтне сто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о сепроцењу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трошков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costs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ефект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effects), а пото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однос ових разл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значава као инкрементални однос трошкова и ефеката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Ц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eng. incremental cost-effectiveness ratio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лиза односа трошкова и корисности (енг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 – utility analysis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есе  терапијске стратегије се пореде у домену трошкова, који су изражени у монетарним јединицама и у домену добити, која је изражена у јединицама кор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корисности - године живота кориговане за квалитет нпр. (eng. Quality-Adjusted Life-Years (QALY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применљиво у случају када се пореде терапијске процедуре намењене за лечење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анализе односа трошкова и корисности се изражавају као однос трошкова и година живота коригованих за квалитет (трошкови/ QA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нализа односа трошкови /добит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(енг. cost - benefit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уна се придружена добит сваког од третмана (у новчаним јединицама) и пореди са њиховим трошковима (вредност за новац, енг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и исходи испитиваних терапијских процедура су изражени у монетарним јединицама, док истраживачи анализом резултата овог типа фармакоекономске анализе указују на то да ли корист интервенција превазилази трошкове сва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дије трошкова лечења (eng. cost of ill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циљ имају идентификацију, процену и вредновањ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их трошкова који су садржани у лечењу болести од интереса и њених комплик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место међу фармакоекономским анализама заузима израда Марковљевог мод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дизајном клиничких студија није предвиђено прикупљање сета економских података, или извођење фармакоекономске анализе односа трошкова и клиничког ефекта није могуће спровести због разлога логистичке или етичке природе, приступа се изради м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љев модел интегрише израду анализе одлуке уз сагледавање временске компон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ање подржава наменски компјутерски програм TreeAge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ни резултати се приказују табеларно и графички и то као инкрементални однос трошкова и ефеката (ИЦЕ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Calibri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резултата фармакоекономских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економија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потражњу и захтеве здравственог система и обезбеђује простор за доношење одлука у оквиру здравстве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аја и примењује принципе као и методологију здравствене економије у области фармацутске и здравстве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08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4437000"/>
            <a:ext cx="4176720" cy="201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ИЦЕРА-а у односу на 1-3 х вредности  </a:t>
            </a:r>
            <a:r>
              <a:rPr b="1" i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мности друштва да плати неку терапијску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цију одређује исплативост испитиване терапијске процедуре</a:t>
            </a:r>
            <a:r>
              <a:rPr b="1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4788000" y="450864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-“</a:t>
            </a:r>
            <a:r>
              <a:rPr b="1" lang="sr-Latn-RS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ominanted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“</a:t>
            </a:r>
            <a:r>
              <a:rPr b="1" lang="sr-Latn-R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ominant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,4 –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нск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студи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дентификују, мере и пореде трошкове лечењ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е, ризике и користи различитих терапијских оп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с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и са економског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стичког асп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 као такве могу послужити доносиоцима одлука у здравственим системима при увођењу нових интервенција у свакодневни клинички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tional Society for Pharmacoeconomics and Outcomes Research (ISP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процењу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нашање појединца, институције и тржишта у погледу употребе медицинских услуга са најчешћим фокусом на консеквенце коришћења ових услуга и последичне трош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о питање у фармакоекономским студијама је усмерено на упоређивање трошкова и ефикасности више терапијских 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д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термин фармакоекономија садржи део који упућује на реч лек (lat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k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фармакоекономске евалуације су применљиве 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е медицинске ресурсе и програ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евалуациј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economic eval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истраживање чији циљ јесте поређење најмање две медицинске интервенције како у смислу трошков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ко и у смислу ефекат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евалу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линичког еф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орис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utility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доби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benefit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инимизације трош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st minimisatio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рошкова лечења болести од интерес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llness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 вредност ресурса који се утроше у производњи робе или услу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 теорија трошкове = трошкови опортун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робе/улуге + про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0:43:59Z</dcterms:created>
  <dc:creator>Marina Kostic</dc:creator>
  <dc:description/>
  <dc:language>en-US</dc:language>
  <cp:lastModifiedBy>Marina Kostic</cp:lastModifiedBy>
  <dcterms:modified xsi:type="dcterms:W3CDTF">2023-09-11T10:12:19Z</dcterms:modified>
  <cp:revision>71</cp:revision>
  <dc:subject/>
  <dc:title>Увод у фармакоекономију</dc:title>
</cp:coreProperties>
</file>